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643-431B-40F8-935D-3A168B21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2FB-F937-431E-8556-EB652BD1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E1C-7407-449B-8AC1-57157A1C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E77-5FD1-4117-B727-6FEE730D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47C-873D-4E60-8991-DE3264A5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AE8-4E82-476E-B75B-DD0B3087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AB8-4B7A-4E3B-AD31-15B6ECE9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723-5E6E-4658-A3FA-B265D386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674-A18A-453B-87D9-413425C7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5D9-7C15-49B5-9FD6-5F54201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8B3-02FB-4883-B525-FBB8C901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435-5DC1-4464-A580-58BF106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1CC0-90DB-4A5F-A2DC-6D2D7BFB7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6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n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co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n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hange in an ecosystem that can be both good for some and bad for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eaver building a new home and having a better habitat; and the flooding of the riverbank near the beaver’s dam that destoys small animal’s h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some of the man-made changes in an eco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uilding new homes, clearing land, cutting down trees or throw out garb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new species end up in new loca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ough out history people have carried plants and animals over oceans, mountains, to new continents that have changed ecosyste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some new species mange to thrive and seem to grow endless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se species have no pred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rlic mustard plant was first brought to this country for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purpose of food and medicin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responsible for changes in Ecosyste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id rain affects an ecosystem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rain absorbing pollutants in the atmosphere and then falling to the ground and seriously polluting the water and the grou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offspring get their parents genes, DNA, characteristic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nher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hange in an organism’s genes or characteristic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mu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ody part called that helps an organism or species surv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structural adap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inherited behavior that helps an animal or species surv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behavioral adap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people and anim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ile of garbage that is eventually covered with soil and gra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landfi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uch garbage does an average American throw out a 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.8 kilograms or 3.96 pounds of garb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poisons that kill insec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pestici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we call a species that has no members of its kind al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 we call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hows us species that lived long ago that are now extin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fossi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scribe the time necessary for changes in ecosystem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fossils teach us about extinction?__________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rst that a wide variety of species has become extinct throughout history. Second we get clues as to why some species survive well and why others do n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systems of living and non-living thing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ecosyst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appens when bacteria develop adaptations against an antibioti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edicine used to fight the bacteria becomes less effective in fighting the bacteria, and the bacteria becomes harder to tre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behavioral adaptation allow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wks to live inn a c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king nests on tall building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and describe the two kinds of adapt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uctural adaptations are changed body parts and behavior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ptations are instinc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ometimes quickly and sometimes slowly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pecifically did the pesticide DDT do endanger the Bald Eagle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pesticide DDT made the eagle’s eggs have thin shells and many of th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bies did not surv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ain a helpful change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earth worms digging holes in the soil for aeration and decomposing nutrients back into the s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ain a harmful change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destruction of the land by a swarm of locusts?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1-12-15T19:12:02Z</dcterms:modified>
  <cp:revision>59</cp:revision>
  <dc:subject/>
  <dc:title>No Slide Title</dc:title>
</cp:coreProperties>
</file>